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CFFD-CA6B-4F02-B96C-516C7890E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CC8D-9CA8-4DF1-B8A1-6486D8A3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F6D9-8B10-41EC-935F-B5354382E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706C-6946-4E37-AA80-12C9D98E0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6BFB58F-5D29-4407-B5BE-EAA206C17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45B1747-891C-4DBE-8913-1B755C6FB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16BFAB-BF4B-4EAD-8E72-826F7E819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C5D8B1-4E51-49E7-88AD-4925F789A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E7D97D-3192-4734-8FC8-2436BEA45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B5C32-151A-44C3-A3E9-45F9DFD1C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EF9DF4-73AA-47BC-926A-0013735C6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E8424-B2BB-4205-AE47-C8E902AD2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C3728-8602-4185-9372-E20937248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73C5BE-ED3A-426B-B64D-9533B21B0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92BE53-B1D5-4594-BB61-95CBB3B06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0ED609-E9BD-4D94-A7C3-A81D63B2CB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EF5A54-E2E6-463B-AA94-B14FEE816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3EC0-368D-4A81-8ACB-F6D19E65D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FB0F-C903-4ADB-B172-6025CE112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41FBA-38AB-428D-8172-AB2D22284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7E36-ABB8-4847-B87A-F25E30F3F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74A4-FF3B-4976-9DA2-886F3F712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6F8B9-7099-45B7-A8C3-AE25FF580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EC0-3979-497D-9855-E60ACB81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0E440-9960-4406-964D-70C075B4F7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>
              <a:gd name="textAreaLeft" fmla="*/ 0 w 1440"/>
              <a:gd name="textAreaRight" fmla="*/ 1800 w 1440"/>
              <a:gd name="textAreaTop" fmla="*/ 0 h 3035160"/>
              <a:gd name="textAreaBottom" fmla="*/ 3035520 h 3035160"/>
            </a:gdLst>
            <a:ahLst/>
            <a:rect l="textAreaLeft" t="textAreaTop" r="textAreaRight" b="textAreaBottom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33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2961-A8A1-45D7-9BAC-F6E005BFF3B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ruiseevents.net/ferrigno/Lou%2520Ferrigno%2520full%2520body%2520photo.JPG&amp;imgrefurl=http://www.cruiseevents.net/ferrigno/brochure.htm&amp;h=2520&amp;w=1299&amp;sz=235&amp;tbnid=kCYn_8fircEJ:&amp;tbnh=150&amp;tbnw=77&amp;hl=en&amp;start=1&amp;prev=/images%3Fq%3Dbody%26svnum%3D10%26hl%3Den%26lr%3D%26sa%3DN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66"/>
                </a:solidFill>
                <a:latin typeface="Tahoma"/>
              </a:rPr>
              <a:t>L E T ‘ S  W R I T E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4495680" y="2133720"/>
            <a:ext cx="678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with a focus on ML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5" name="Picture 5" descr="j0290673[1]"/>
          <p:cNvPicPr/>
          <p:nvPr/>
        </p:nvPicPr>
        <p:blipFill>
          <a:blip r:embed="rId1"/>
          <a:stretch/>
        </p:blipFill>
        <p:spPr>
          <a:xfrm>
            <a:off x="2286000" y="3124080"/>
            <a:ext cx="3949560" cy="23130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5715000" y="60199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rs. Marti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" dur="80"/>
                                        <p:tgtEl>
                                          <p:spTgt spid="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he Order of An Ess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. Introduction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. Body (2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n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3. Body (3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rd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. Body (4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5.Conclusion (5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ahoma"/>
              </a:rPr>
              <a:t>th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Paragraph)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8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Diagram 3" descr=""/>
          <p:cNvPicPr/>
          <p:nvPr/>
        </p:nvPicPr>
        <p:blipFill>
          <a:blip r:embed="rId1"/>
          <a:stretch/>
        </p:blipFill>
        <p:spPr>
          <a:xfrm>
            <a:off x="274680" y="835200"/>
            <a:ext cx="8351640" cy="488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e first paragraph of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lways include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ask a ques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tate a fac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b. central ide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your opinion/what you are going to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c. 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reasons that support your opin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your essay will follow that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d. en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6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4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54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,-103,-103)"/>
                                      </p:to>
                                    </p:set>
                                    <p:set>
                                      <p:cBhvr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Text Box 4"/>
          <p:cNvSpPr/>
          <p:nvPr/>
        </p:nvSpPr>
        <p:spPr>
          <a:xfrm>
            <a:off x="533520" y="1905120"/>
            <a:ext cx="8305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ahoma"/>
              </a:rPr>
              <a:t>There are many great books worth taking the time to read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80880" y="2895480"/>
            <a:ext cx="7696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The book, </a:t>
            </a:r>
            <a:r>
              <a:rPr b="0" lang="en-US" sz="2400" spc="-1" strike="noStrike" u="sng">
                <a:solidFill>
                  <a:srgbClr val="ff3300"/>
                </a:solidFill>
                <a:uFillTx/>
                <a:latin typeface="Tahoma"/>
              </a:rPr>
              <a:t>The Pearl</a:t>
            </a: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, written by John Steinbeck was an excellent boo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457200" y="4038480"/>
            <a:ext cx="8686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99"/>
                </a:solidFill>
                <a:latin typeface="Tahoma"/>
              </a:rPr>
              <a:t>It is an excellent book because the characters were interesting, there is a lot of action, and the story never becomes boring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533520" y="556272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ino, the main character, suffers many losses throughout the book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6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7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8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9" dur="8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4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5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8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troduction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ahoma"/>
              </a:rPr>
              <a:t>Computers have affected many people’s lives in a convenient wa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omputers are very useful invention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hey make school work easier, finding information faster, and help people keep in touch with their famil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rs are a great benefit to socie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 your own intro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opic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entral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1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2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ason 3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rite paragraph her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80880" y="-30492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Bod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3520" y="14479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llow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member the order of para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ill consist of at least three complete paragraph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Text Box 4"/>
          <p:cNvSpPr/>
          <p:nvPr/>
        </p:nvSpPr>
        <p:spPr>
          <a:xfrm>
            <a:off x="1143000" y="838080"/>
            <a:ext cx="434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consists of paragraphs 2,3, 4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5" name="Picture 9" descr="Lou%2520Ferrigno%2520full%2520body%2520phot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225960"/>
            <a:ext cx="18655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0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2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on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0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0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3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two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 4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es on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reason three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in your thes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-always includes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.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.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. example/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. end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sists of a group of sentences that share a common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5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new paragraph gets indent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ach paragraph develops ONE ide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fifth (last) paragraph in an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ver begin with In conclus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ust be 5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uld restate the main points of your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rite your topic sentenc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 everything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clude text to self/society/t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n Excellent Essay Uses: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66ff66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3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ocu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essay writes about only ONE topic which is your central i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Text Box 4"/>
          <p:cNvSpPr/>
          <p:nvPr/>
        </p:nvSpPr>
        <p:spPr>
          <a:xfrm>
            <a:off x="1371600" y="1447920"/>
            <a:ext cx="525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0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t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51424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-the presence of ideas developed through examples and reaso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use the reasons stated in your thes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use examples/quotes/researc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-Show me/convince me you are righ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Organization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Text Box 5"/>
          <p:cNvSpPr/>
          <p:nvPr/>
        </p:nvSpPr>
        <p:spPr>
          <a:xfrm>
            <a:off x="1752480" y="1447920"/>
            <a:ext cx="571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the clear order of an es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43" name="Diagram 8"/>
          <p:cNvGrpSpPr/>
          <p:nvPr/>
        </p:nvGrpSpPr>
        <p:grpSpPr>
          <a:xfrm>
            <a:off x="2617920" y="2270160"/>
            <a:ext cx="3908160" cy="3384360"/>
            <a:chOff x="2617920" y="2270160"/>
            <a:chExt cx="3908160" cy="3384360"/>
          </a:xfrm>
        </p:grpSpPr>
        <p:sp>
          <p:nvSpPr>
            <p:cNvPr id="144" name="_s1028"/>
            <p:cNvSpPr/>
            <p:nvPr/>
          </p:nvSpPr>
          <p:spPr>
            <a:xfrm flipV="1">
              <a:off x="4181400" y="2270160"/>
              <a:ext cx="781200" cy="676080"/>
            </a:xfrm>
            <a:custGeom>
              <a:avLst/>
              <a:gdLst>
                <a:gd name="textAreaLeft" fmla="*/ 280080 w 781200"/>
                <a:gd name="textAreaRight" fmla="*/ 501120 w 781200"/>
                <a:gd name="textAreaTop" fmla="*/ 242640 h 676080"/>
                <a:gd name="textAreaBottom" fmla="*/ 43344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Introduct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_s1029"/>
            <p:cNvSpPr/>
            <p:nvPr/>
          </p:nvSpPr>
          <p:spPr>
            <a:xfrm flipV="1">
              <a:off x="3790800" y="2945520"/>
              <a:ext cx="1562400" cy="677880"/>
            </a:xfrm>
            <a:custGeom>
              <a:avLst/>
              <a:gdLst>
                <a:gd name="textAreaLeft" fmla="*/ 343440 w 1562400"/>
                <a:gd name="textAreaRight" fmla="*/ 1218960 w 1562400"/>
                <a:gd name="textAreaTop" fmla="*/ 149040 h 677880"/>
                <a:gd name="textAreaBottom" fmla="*/ 52884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2</a:t>
              </a: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_s1030"/>
            <p:cNvSpPr/>
            <p:nvPr/>
          </p:nvSpPr>
          <p:spPr>
            <a:xfrm flipV="1">
              <a:off x="3398760" y="3623400"/>
              <a:ext cx="2346480" cy="676440"/>
            </a:xfrm>
            <a:custGeom>
              <a:avLst/>
              <a:gdLst>
                <a:gd name="textAreaLeft" fmla="*/ 407160 w 2346480"/>
                <a:gd name="textAreaRight" fmla="*/ 1939320 w 2346480"/>
                <a:gd name="textAreaTop" fmla="*/ 117360 h 676440"/>
                <a:gd name="textAreaBottom" fmla="*/ 559080 h 67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3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_s1031"/>
            <p:cNvSpPr/>
            <p:nvPr/>
          </p:nvSpPr>
          <p:spPr>
            <a:xfrm flipV="1">
              <a:off x="3008160" y="4299840"/>
              <a:ext cx="3127680" cy="677880"/>
            </a:xfrm>
            <a:custGeom>
              <a:avLst/>
              <a:gdLst>
                <a:gd name="textAreaLeft" fmla="*/ 470520 w 3127680"/>
                <a:gd name="textAreaRight" fmla="*/ 2657160 w 3127680"/>
                <a:gd name="textAreaTop" fmla="*/ 101880 h 677880"/>
                <a:gd name="textAreaBottom" fmla="*/ 576000 h 677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Body 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Paragraph 4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_s1032"/>
            <p:cNvSpPr/>
            <p:nvPr/>
          </p:nvSpPr>
          <p:spPr>
            <a:xfrm flipV="1">
              <a:off x="2617920" y="4978440"/>
              <a:ext cx="3908160" cy="676080"/>
            </a:xfrm>
            <a:custGeom>
              <a:avLst/>
              <a:gdLst>
                <a:gd name="textAreaLeft" fmla="*/ 533520 w 3908160"/>
                <a:gd name="textAreaRight" fmla="*/ 3374640 w 3908160"/>
                <a:gd name="textAreaTop" fmla="*/ 92160 h 676080"/>
                <a:gd name="textAreaBottom" fmla="*/ 583920 h 67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6666ff"/>
            </a:solidFill>
            <a:ln w="46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Tahoma"/>
                </a:rPr>
                <a:t>Conclusion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tyl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33520" y="21337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your own unique writing voi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a variety of wo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se similes and metaphors to describe someth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do not repeat yourself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do not write like you talk or text or twe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0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1. Do not us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I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 an ess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ike MTV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TV is g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love pizz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izza tastes good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 think school uniform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re a dumb ide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chool uniforms are a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dumb ide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2. Do not us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you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you ever read such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 wonderful book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 has never been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uch a wonderful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book as this one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ave you ever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enced lov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any people have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xperienced love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Text Box 4"/>
          <p:cNvSpPr/>
          <p:nvPr/>
        </p:nvSpPr>
        <p:spPr>
          <a:xfrm>
            <a:off x="1219320" y="144792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grammar, spelling, and mechanics are all correc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fill="hold">
                      <p:stCondLst>
                        <p:cond delay="0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3. Do not 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this essay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s essay will discuss why summer is the best season of al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mm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4. Do not use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ahoma"/>
              </a:rPr>
              <a:t>in conclusion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in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 conclusion, wint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inter is the best seaso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40384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,THEIR, THEY’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5. Know the difference betwe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their, there, they'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ir-Is that their book on the floo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possessive/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re-Are you going over there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shows loc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y're-They're going to the movies tonigh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they 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48320" y="1218960"/>
            <a:ext cx="40384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R, YOU’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6. Know the difference between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your and you'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r-Is that your book on the floor in the corner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possessive/shows 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wnership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you're-You're a wonderful person!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. you ar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onvention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7. Do not use slang in an essa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gonna,gun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ain'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lik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becuz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-U R 2 koo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8. Do not begin a sentence with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ahoma"/>
              </a:rPr>
              <a:t>and, because, so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9. Check your spel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0. No contrac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ragraph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0" name="Diagram 4" descr=""/>
          <p:cNvPicPr/>
          <p:nvPr/>
        </p:nvPicPr>
        <p:blipFill>
          <a:blip r:embed="rId1"/>
          <a:stretch/>
        </p:blipFill>
        <p:spPr>
          <a:xfrm>
            <a:off x="365040" y="1365120"/>
            <a:ext cx="826128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ing Promp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nk about inventions that have affected our lives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lect an invention and write to explain why this invention has been good or bad for society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WordArt 5"/>
          <p:cNvSpPr txBox="1"/>
          <p:nvPr/>
        </p:nvSpPr>
        <p:spPr>
          <a:xfrm>
            <a:off x="0" y="1523880"/>
            <a:ext cx="9144000" cy="2229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M L A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2819520" y="449568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Modern Language Assoc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24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odern Language Associ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ey create the "writing rules"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s that everyone is graded on the same standard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LA IS USED IN ALL TYPES OF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. literary analysis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. research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. character analysis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. compare/contrast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. persuasive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. informative essay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0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3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2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3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8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9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1" dur="8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6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8" dur="8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0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1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2" dur="8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7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8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9" dur="8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 On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ple goes in left hand cor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 cover shee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uide words are double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tion includes last name and page numb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space the rest of the essay after the titl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7467120" y="6172200"/>
            <a:ext cx="44960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4572000" y="762120"/>
            <a:ext cx="4114800" cy="556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Text Box 12"/>
          <p:cNvSpPr/>
          <p:nvPr/>
        </p:nvSpPr>
        <p:spPr>
          <a:xfrm>
            <a:off x="4648320" y="990720"/>
            <a:ext cx="4038480" cy="28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Na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eacher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Clas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Date essay is du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itle of your Ess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0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age Two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uble space entire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in 12 point fo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Times New Roman typ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ginatio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add extra spaces in between paragraph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Rectangle 6"/>
          <p:cNvSpPr/>
          <p:nvPr/>
        </p:nvSpPr>
        <p:spPr>
          <a:xfrm>
            <a:off x="4648320" y="1219320"/>
            <a:ext cx="4038480" cy="52578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800600" y="1523880"/>
            <a:ext cx="3962520" cy="491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Essay goes here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age Thre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1.5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4832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Rectangle 6"/>
          <p:cNvSpPr/>
          <p:nvPr/>
        </p:nvSpPr>
        <p:spPr>
          <a:xfrm>
            <a:off x="4724280" y="1066680"/>
            <a:ext cx="4114800" cy="579132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4876920" y="1447920"/>
            <a:ext cx="38862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artin 3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0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80880" y="21333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uble-spac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2 fo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es New Roma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Black in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eft margin onl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taple is put in the left hand corner of the essa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 no cover she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no plast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7400" y="1447920"/>
            <a:ext cx="48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-the whole essay i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0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, teacher, class, date essay is due  placed in the upper left hand corn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always use at least three quotes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“quote quote” (Shakespeare 4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ou must always have a work cited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Last name, First name. Title of Book.  Where: Who,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Yea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 titles get italiciz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hort stories, internet articles, movies get quotation marks "   "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0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LA Writing Rul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double spaces after a period, question mark, exclamation poi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ype one space after a com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o not forget the header/pagination on far right sid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your own title alway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. be creativ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. the title of your essay does not ge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lined, bolded, italicized, or quotation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ark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ii. is center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0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1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re placed in the body of the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t least one quote per paragrap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3 quotes tot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quotes are never placed in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on or the conclusion of an essa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quotes help to prove your thesis (opin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"quote quote quote quote" (Author's last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ame space page number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"The sky is blue" (Lowry 8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."It was a dark and stormy night in the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ave" (King 96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3" name="Picture 4" descr="j0338828[1]"/>
          <p:cNvPicPr/>
          <p:nvPr/>
        </p:nvPicPr>
        <p:blipFill>
          <a:blip r:embed="rId1"/>
          <a:stretch/>
        </p:blipFill>
        <p:spPr>
          <a:xfrm>
            <a:off x="4495680" y="0"/>
            <a:ext cx="362916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Topic Sentenc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rst sentence in each paragraph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ells exactly what the paragraph will be abou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s a statement/opin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Quotes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eed a lead-in before the quote using either a comma or a col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setting was beautifully described,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"the day was warm and the sun shone hues of pink, blue, and orange while the trees were alive with green" (Liss 98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he character named Brad had a lot of attitude when talking to his teacher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: "So teach, you need to lighten up.  No homework tonight.  Even so, I won't do it" (Polks 345)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6" name="Picture 4" descr="j0338828[1]"/>
          <p:cNvPicPr/>
          <p:nvPr/>
        </p:nvPicPr>
        <p:blipFill>
          <a:blip r:embed="rId1"/>
          <a:stretch/>
        </p:blipFill>
        <p:spPr>
          <a:xfrm>
            <a:off x="5486400" y="0"/>
            <a:ext cx="324792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ast page of your essay (gets its own pa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ooks get underlined (this also goes for your entire essay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page is 1.5 spac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ork Cited is centered on the top of the p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a. does not get underlin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. does not get special treatm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f more than one book, the books are arranged in alphabetical ord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66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asybib.co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99" name="Picture 4" descr="j0404059[1]"/>
          <p:cNvPicPr/>
          <p:nvPr/>
        </p:nvPicPr>
        <p:blipFill>
          <a:blip r:embed="rId1"/>
          <a:stretch/>
        </p:blipFill>
        <p:spPr>
          <a:xfrm>
            <a:off x="6248520" y="0"/>
            <a:ext cx="18223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0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0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ork Cited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Book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ast name, First name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itle of Book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ere: Who, Year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King, Stephan.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ahoma"/>
              </a:rPr>
              <a:t>The Shining.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New York: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enguin Books, 1976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02" name="Picture 6" descr="j0404059[1]"/>
          <p:cNvPicPr/>
          <p:nvPr/>
        </p:nvPicPr>
        <p:blipFill>
          <a:blip r:embed="rId1"/>
          <a:stretch/>
        </p:blipFill>
        <p:spPr>
          <a:xfrm>
            <a:off x="6019920" y="0"/>
            <a:ext cx="1822320" cy="18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iterary Analysis Essay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literary analysis essay breaks down important literary aspects about a book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se details help other people to understand the work as a whole togeth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457200" y="228240"/>
            <a:ext cx="822960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Introduc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opic sen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entral idea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Auth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itl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Literary element which your essay will focus 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ice and M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written by John Steinbeck, focused on the theme of friendship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John Steinbeck, in his novel,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ahoma"/>
              </a:rPr>
              <a:t>Of Mice and Men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, used the setting to promote action in his book.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esi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-Your supporting rea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ffffff"/>
              </a:buClr>
              <a:buFont typeface="Tahom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se reasons will be the order of your essay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End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index card.jpg"/>
          <p:cNvPicPr/>
          <p:nvPr/>
        </p:nvPicPr>
        <p:blipFill>
          <a:blip r:embed="rId1"/>
          <a:stretch/>
        </p:blipFill>
        <p:spPr>
          <a:xfrm>
            <a:off x="380880" y="762120"/>
            <a:ext cx="8382240" cy="54100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68544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Topic Sent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Central Idea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Thesis Sentence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ff66"/>
                </a:solidFill>
                <a:latin typeface="Tahoma"/>
              </a:rPr>
              <a:t>Ender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" descr="index card.jpg"/>
          <p:cNvPicPr/>
          <p:nvPr/>
        </p:nvPicPr>
        <p:blipFill>
          <a:blip r:embed="rId1"/>
          <a:stretch/>
        </p:blipFill>
        <p:spPr>
          <a:xfrm>
            <a:off x="152280" y="609480"/>
            <a:ext cx="8458200" cy="6019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 txBox="1"/>
          <p:nvPr/>
        </p:nvSpPr>
        <p:spPr>
          <a:xfrm>
            <a:off x="457200" y="6091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Body 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Reason 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Your example from the novel here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Lead-in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Quote: “  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990099"/>
                </a:solidFill>
                <a:latin typeface="Tahoma"/>
              </a:rPr>
              <a:t> “ (Steinbeck 78)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Restatemen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ntence after the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s the who, what, why, how, wh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Longer, detailed topic sentenc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s or Quotes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restat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xplains your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how your poi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you know about the topic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. give a reason/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i. use a quo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6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nder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fter the examp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33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es this paragraph with the nex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j0116362[1]"/>
          <p:cNvPicPr/>
          <p:nvPr/>
        </p:nvPicPr>
        <p:blipFill>
          <a:blip r:embed="rId1"/>
          <a:stretch/>
        </p:blipFill>
        <p:spPr>
          <a:xfrm>
            <a:off x="1447920" y="4191120"/>
            <a:ext cx="5715000" cy="15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7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9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Example Paragraph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457200" y="1295280"/>
            <a:ext cx="609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99"/>
                </a:solidFill>
                <a:latin typeface="Tahoma"/>
              </a:rPr>
              <a:t>The ocean is beautiful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Text Box 5"/>
          <p:cNvSpPr/>
          <p:nvPr/>
        </p:nvSpPr>
        <p:spPr>
          <a:xfrm>
            <a:off x="380880" y="1828800"/>
            <a:ext cx="739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ahoma"/>
              </a:rPr>
              <a:t>The ocean is beautiful because of the clear blue colo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Text Box 6"/>
          <p:cNvSpPr/>
          <p:nvPr/>
        </p:nvSpPr>
        <p:spPr>
          <a:xfrm>
            <a:off x="457200" y="2819520"/>
            <a:ext cx="830592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9900"/>
                </a:solidFill>
                <a:latin typeface="Tahoma"/>
              </a:rPr>
              <a:t>In Maryland, the ocean is so clear you can see all the multi-colored fish swimming around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b050"/>
                </a:solidFill>
                <a:latin typeface="Tahoma"/>
              </a:rPr>
              <a:t>Henry Beston believes that one of the greatest sounds is “the sound of outer ocean on a beach” (Beston 32). 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Text Box 7"/>
          <p:cNvSpPr/>
          <p:nvPr/>
        </p:nvSpPr>
        <p:spPr>
          <a:xfrm>
            <a:off x="457200" y="5257800"/>
            <a:ext cx="6477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Tahoma"/>
              </a:rPr>
              <a:t>There are many things that are also beautiful like the ocean, such as butterflie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" dur="8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6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8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4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80"/>
                                        <p:tgtEl>
                                          <p:spTgt spid="1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03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0,5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2" dur="8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rite your own paragraph her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1T12:28:58Z</dcterms:created>
  <dc:creator>ASD</dc:creator>
  <dc:description/>
  <dc:language>en-US</dc:language>
  <cp:lastModifiedBy>Teacher</cp:lastModifiedBy>
  <dcterms:modified xsi:type="dcterms:W3CDTF">2010-06-15T14:00:49Z</dcterms:modified>
  <cp:revision>16</cp:revision>
  <dc:subject/>
  <dc:title>L E T ‘ S  W R I T E</dc:title>
</cp:coreProperties>
</file>